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8443-8C26-46D7-B674-FAC6B0FA6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2565360"/>
            <a:ext cx="82296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5280" y="4483440"/>
            <a:ext cx="82296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D66D-306C-4336-9D8F-27851518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5280" y="2565360"/>
            <a:ext cx="40158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12320" y="2565360"/>
            <a:ext cx="40158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95280" y="4483440"/>
            <a:ext cx="40158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12320" y="4483440"/>
            <a:ext cx="40158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1CF4-8883-48D9-AC9A-78F34ADD2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5280" y="2565360"/>
            <a:ext cx="26496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7720" y="2565360"/>
            <a:ext cx="26496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0160" y="2565360"/>
            <a:ext cx="26496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95280" y="4483440"/>
            <a:ext cx="26496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7720" y="4483440"/>
            <a:ext cx="26496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0160" y="4483440"/>
            <a:ext cx="26496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1FB4-F2C5-41DE-98A8-E24EB9D86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95280" y="256536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AB29-DB6F-43EE-B3F0-FD175693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5280" y="256536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7BCB-7AF8-44CF-9133-AB9BB5EE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5280" y="2565360"/>
            <a:ext cx="40158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12320" y="2565360"/>
            <a:ext cx="40158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5628-CD08-4920-902C-CF44FE0B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A9FD-CAFA-47F3-9F5E-398A7F0B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1341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946F-D4EB-4940-BBBE-09E7AA28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5280" y="2565360"/>
            <a:ext cx="40158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2320" y="2565360"/>
            <a:ext cx="40158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95280" y="4483440"/>
            <a:ext cx="40158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CEB3-01CA-46B0-B990-71206EB5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5280" y="2565360"/>
            <a:ext cx="40158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12320" y="2565360"/>
            <a:ext cx="40158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12320" y="4483440"/>
            <a:ext cx="40158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BF0E-0E3E-4590-BBFC-6B97AA57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5280" y="2565360"/>
            <a:ext cx="40158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12320" y="2565360"/>
            <a:ext cx="40158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95280" y="4483440"/>
            <a:ext cx="82296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992A-391D-4522-8970-A25B012A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b3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E1EB-DC6C-4C07-832B-0D113973B6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0"/>
          <p:cNvSpPr/>
          <p:nvPr/>
        </p:nvSpPr>
        <p:spPr>
          <a:xfrm>
            <a:off x="1187280" y="260280"/>
            <a:ext cx="65534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 Rounded MT Bold"/>
              </a:rPr>
              <a:t>PROGRAMME DECENTRALISATION/DEVELOPPEMENT COMMUNAL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 Rounded MT Bold"/>
              </a:rPr>
              <a:t>SOUS COMPOSANTE FOYERS  AMELIORES (PDDC/FAFASO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11" descr="Nouvelle image"/>
          <p:cNvPicPr/>
          <p:nvPr/>
        </p:nvPicPr>
        <p:blipFill>
          <a:blip r:embed="rId2"/>
          <a:stretch/>
        </p:blipFill>
        <p:spPr>
          <a:xfrm>
            <a:off x="324000" y="189000"/>
            <a:ext cx="817560" cy="1149120"/>
          </a:xfrm>
          <a:prstGeom prst="rect">
            <a:avLst/>
          </a:prstGeom>
          <a:ln w="22320">
            <a:solidFill>
              <a:srgbClr val="686b5d"/>
            </a:solidFill>
            <a:miter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740720" y="189000"/>
            <a:ext cx="1116000" cy="1152360"/>
          </a:xfrm>
          <a:prstGeom prst="rect">
            <a:avLst/>
          </a:prstGeom>
          <a:ln w="22320">
            <a:solidFill>
              <a:srgbClr val="686b5d"/>
            </a:solidFill>
            <a:miter/>
          </a:ln>
        </p:spPr>
      </p:pic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395280" y="256536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b3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92929"/>
                </a:solidFill>
                <a:latin typeface="Arial"/>
              </a:rPr>
              <a:t>Marketing campaigns pay off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09680" y="4419360"/>
            <a:ext cx="64008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11111"/>
                </a:solidFill>
                <a:latin typeface="Arial"/>
              </a:rPr>
              <a:t>Experiences from Burkina Fa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1111"/>
                </a:solidFill>
                <a:latin typeface="Arial"/>
              </a:rPr>
              <a:t>Dr Andrea Reik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1111"/>
                </a:solidFill>
                <a:latin typeface="Arial"/>
              </a:rPr>
              <a:t>PDDC/FAFA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547640" y="260280"/>
            <a:ext cx="684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b3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92929"/>
                </a:solidFill>
                <a:latin typeface="Arial"/>
              </a:rPr>
              <a:t>How</a:t>
            </a:r>
            <a:r>
              <a:rPr b="1" lang="de-DE" sz="3200" spc="-1" strike="noStrike">
                <a:solidFill>
                  <a:srgbClr val="29292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16360" y="2349360"/>
            <a:ext cx="3168360" cy="1008360"/>
          </a:xfrm>
          <a:prstGeom prst="flowChartAlternateProcess">
            <a:avLst/>
          </a:prstGeom>
          <a:solidFill>
            <a:srgbClr val="809ea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111111"/>
                </a:solidFill>
                <a:latin typeface="Arial"/>
              </a:rPr>
              <a:t>Publicity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16360" y="4653000"/>
            <a:ext cx="3168360" cy="1008000"/>
          </a:xfrm>
          <a:prstGeom prst="flowChartAlternateProcess">
            <a:avLst/>
          </a:prstGeom>
          <a:solidFill>
            <a:srgbClr val="809ea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111111"/>
                </a:solidFill>
                <a:latin typeface="Arial"/>
              </a:rPr>
              <a:t>Publicity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16360" y="3500280"/>
            <a:ext cx="3168360" cy="1008360"/>
          </a:xfrm>
          <a:prstGeom prst="flowChartAlternateProcess">
            <a:avLst/>
          </a:prstGeom>
          <a:solidFill>
            <a:srgbClr val="809ea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111111"/>
                </a:solidFill>
                <a:latin typeface="Arial"/>
              </a:rPr>
              <a:t>Publicity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b3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92929"/>
                </a:solidFill>
                <a:latin typeface="Arial"/>
              </a:rPr>
              <a:t>1. The brand </a:t>
            </a: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«</a:t>
            </a:r>
            <a:r>
              <a:rPr b="1" lang="en-GB" sz="3200" spc="-1" strike="noStrike">
                <a:solidFill>
                  <a:srgbClr val="292929"/>
                </a:solidFill>
                <a:latin typeface="Arial"/>
              </a:rPr>
              <a:t>roumdé</a:t>
            </a: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2133720"/>
            <a:ext cx="7993080" cy="64764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1st step of the marketing campaign = creating a brand / lab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2997360"/>
            <a:ext cx="7920000" cy="108108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«roumdé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= mooré, Burkina Faso‘s most important national languag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«the preferred» (woman) = «the preferred » (stov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4365720"/>
            <a:ext cx="7920000" cy="57600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Distinguishes «good» stoves from «bad» 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5157720"/>
            <a:ext cx="7920000" cy="64764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Also serves as quality labe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b3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292929"/>
                </a:solidFill>
                <a:latin typeface="Arial"/>
              </a:rPr>
              <a:t>2. </a:t>
            </a:r>
            <a:r>
              <a:rPr b="1" lang="en-GB" sz="3600" spc="-1" strike="noStrike">
                <a:solidFill>
                  <a:srgbClr val="292929"/>
                </a:solidFill>
                <a:latin typeface="Arial"/>
              </a:rPr>
              <a:t>The marketing campaign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81280" y="2209680"/>
            <a:ext cx="2052720" cy="64800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pos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2000" y="2997360"/>
            <a:ext cx="3024360" cy="129528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radio-/TV-spo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1111"/>
                </a:solidFill>
                <a:latin typeface="Arial"/>
              </a:rPr>
              <a:t>Radio ga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1111"/>
                </a:solidFill>
                <a:latin typeface="Arial"/>
              </a:rPr>
              <a:t>TV-interviews etc.</a:t>
            </a:r>
            <a:r>
              <a:rPr b="1" lang="de-DE" sz="18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24000" y="5300640"/>
            <a:ext cx="4967280" cy="86508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Publicity events in public pla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Fares and exhib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71640" y="4437000"/>
            <a:ext cx="3743640" cy="64764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sponso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b3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92929"/>
                </a:solidFill>
                <a:latin typeface="Arial"/>
              </a:rPr>
              <a:t>Publicity events </a:t>
            </a:r>
            <a:br>
              <a:rPr sz="3200"/>
            </a:br>
            <a:r>
              <a:rPr b="1" lang="en-GB" sz="3200" spc="-1" strike="noStrike">
                <a:solidFill>
                  <a:srgbClr val="292929"/>
                </a:solidFill>
                <a:latin typeface="Arial"/>
              </a:rPr>
              <a:t>(with or without theatre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3887640" cy="292752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643280" y="2492280"/>
            <a:ext cx="3819600" cy="293868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b3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92929"/>
                </a:solidFill>
                <a:latin typeface="Arial"/>
              </a:rPr>
              <a:t>Fares and exhibitions</a:t>
            </a:r>
            <a:r>
              <a:rPr b="1" lang="de-DE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716360" y="2492280"/>
            <a:ext cx="4041720" cy="304164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4078080" cy="307188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b3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92929"/>
                </a:solidFill>
                <a:latin typeface="Arial"/>
              </a:rPr>
              <a:t>Sponsor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3280" y="2421000"/>
            <a:ext cx="3845160" cy="289872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39640" y="2421000"/>
            <a:ext cx="3816360" cy="289080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b3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The poster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763640" y="2205000"/>
            <a:ext cx="5832720" cy="392904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b3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92929"/>
                </a:solidFill>
                <a:latin typeface="Arial"/>
              </a:rPr>
              <a:t>3. The commercialisation chai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95640" y="2006640"/>
            <a:ext cx="4792680" cy="365436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826920" y="2997360"/>
            <a:ext cx="2632320" cy="367344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826920" y="1981080"/>
            <a:ext cx="2665440" cy="86364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11111"/>
                </a:solidFill>
                <a:latin typeface="Arial"/>
              </a:rPr>
              <a:t>«roumdé» shops c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11111"/>
                </a:solidFill>
                <a:latin typeface="Arial"/>
              </a:rPr>
              <a:t>easily be f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24360" y="5877000"/>
            <a:ext cx="4952880" cy="72072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111111"/>
                </a:solidFill>
                <a:latin typeface="Arial"/>
              </a:rPr>
              <a:t>«</a:t>
            </a:r>
            <a:r>
              <a:rPr b="0" lang="en-GB" sz="1900" spc="-1" strike="noStrike">
                <a:solidFill>
                  <a:srgbClr val="111111"/>
                </a:solidFill>
                <a:latin typeface="Arial"/>
              </a:rPr>
              <a:t>roumdé» producers can easily be identified</a:t>
            </a:r>
            <a:r>
              <a:rPr b="0" lang="de-DE" sz="19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b3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92929"/>
                </a:solidFill>
                <a:latin typeface="Arial"/>
              </a:rPr>
              <a:t>Problems no 1: the producers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2276640"/>
            <a:ext cx="7993080" cy="93492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11111"/>
                </a:solidFill>
                <a:latin typeface="Arial"/>
              </a:rPr>
              <a:t>At the start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11111"/>
                </a:solidFill>
                <a:latin typeface="Arial"/>
              </a:rPr>
              <a:t>What do we stimulate first – offer or  deman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3284640"/>
            <a:ext cx="7993080" cy="71892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11111"/>
                </a:solidFill>
                <a:latin typeface="Arial"/>
              </a:rPr>
              <a:t>commercialis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4076640"/>
            <a:ext cx="7632720" cy="57636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Producers produce only on de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00000" y="5372280"/>
            <a:ext cx="7632720" cy="57600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Sales strategies only adapted for mobile sto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4724280"/>
            <a:ext cx="7632720" cy="57636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Sales practices are difficult to change</a:t>
            </a:r>
            <a:r>
              <a:rPr b="1" lang="de-DE" sz="20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b3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92929"/>
                </a:solidFill>
                <a:latin typeface="Arial"/>
              </a:rPr>
              <a:t>Problems no 2: the PR-agency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2276640"/>
            <a:ext cx="7993080" cy="93492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11111"/>
                </a:solidFill>
                <a:latin typeface="Arial"/>
              </a:rPr>
              <a:t>Good campaign conception – bad execu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3429000"/>
            <a:ext cx="7632720" cy="57636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Time slots paid in TV not respect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00000" y="4292640"/>
            <a:ext cx="7632720" cy="57636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Bad execution of publicity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b3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111111"/>
                </a:solidFill>
                <a:latin typeface="Arial"/>
              </a:rPr>
              <a:t>Basics 1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2276640"/>
            <a:ext cx="3671640" cy="367344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292929"/>
                </a:solidFill>
                <a:latin typeface="Arial"/>
              </a:rPr>
              <a:t>1st Phas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07/05-06/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Integrated into CIL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92929"/>
                </a:solidFill>
                <a:latin typeface="Arial"/>
              </a:rPr>
              <a:t>Objectif 1st Phase:</a:t>
            </a: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Distribution of </a:t>
            </a:r>
            <a:r>
              <a:rPr b="1" lang="en-GB" sz="2000" spc="-1" strike="noStrike">
                <a:solidFill>
                  <a:srgbClr val="292929"/>
                </a:solidFill>
                <a:latin typeface="Arial"/>
              </a:rPr>
              <a:t>15.000 stoves </a:t>
            </a: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In the big cities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(Ouagadougou, Bob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Dioulass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43280" y="2276640"/>
            <a:ext cx="3600720" cy="367344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292929"/>
                </a:solidFill>
                <a:latin typeface="Arial"/>
              </a:rPr>
              <a:t>2nd Phas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Since 07/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Part of PDDC </a:t>
            </a:r>
            <a:br>
              <a:rPr sz="2000"/>
            </a:b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(decentralis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92929"/>
                </a:solidFill>
                <a:latin typeface="Arial"/>
              </a:rPr>
              <a:t>Objectif 2nd Phase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Commercialisation</a:t>
            </a:r>
            <a:r>
              <a:rPr b="1" lang="en-GB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of</a:t>
            </a:r>
            <a:r>
              <a:rPr b="1" lang="en-GB" sz="2000" spc="-1" strike="noStrike">
                <a:solidFill>
                  <a:srgbClr val="292929"/>
                </a:solidFill>
                <a:latin typeface="Arial"/>
              </a:rPr>
              <a:t> 50.000 sto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In cities and in peri-urba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and rural are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b3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92929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00360" y="2276640"/>
            <a:ext cx="4032360" cy="93492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11111"/>
                </a:solidFill>
                <a:latin typeface="Arial"/>
              </a:rPr>
              <a:t>We do it ourselves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3429000"/>
            <a:ext cx="7632720" cy="57636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1st campaign (oct. 06 – jan. 07) made by a PR-ag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00000" y="4221000"/>
            <a:ext cx="7632720" cy="79236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2nd and following campaigns by our own mea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With different assistances on the sp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00000" y="5157720"/>
            <a:ext cx="7632720" cy="57636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Media use in wa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00000" y="5877000"/>
            <a:ext cx="7632720" cy="57636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Continous Publicity events</a:t>
            </a:r>
            <a:r>
              <a:rPr b="0" lang="de-DE" sz="18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b3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92929"/>
                </a:solidFill>
                <a:latin typeface="Arial"/>
              </a:rPr>
              <a:t>Success 1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900000" y="3789360"/>
            <a:ext cx="7488000" cy="1800360"/>
            <a:chOff x="900000" y="3789360"/>
            <a:chExt cx="7488000" cy="1800360"/>
          </a:xfrm>
        </p:grpSpPr>
        <p:sp>
          <p:nvSpPr>
            <p:cNvPr id="131" name=""/>
            <p:cNvSpPr/>
            <p:nvPr/>
          </p:nvSpPr>
          <p:spPr>
            <a:xfrm>
              <a:off x="2555640" y="4437360"/>
              <a:ext cx="1871640" cy="1150920"/>
            </a:xfrm>
            <a:prstGeom prst="flowChartManualInput">
              <a:avLst/>
            </a:prstGeom>
            <a:solidFill>
              <a:srgbClr val="809ea8"/>
            </a:solidFill>
            <a:ln w="9360">
              <a:solidFill>
                <a:srgbClr val="e9dc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111111"/>
                  </a:solidFill>
                  <a:latin typeface="Arial"/>
                </a:rPr>
                <a:t>nov 0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111111"/>
                  </a:solidFill>
                  <a:latin typeface="Arial"/>
                </a:rPr>
                <a:t>1.29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00000" y="4653000"/>
              <a:ext cx="1655640" cy="936720"/>
            </a:xfrm>
            <a:prstGeom prst="flowChartManualInput">
              <a:avLst/>
            </a:prstGeom>
            <a:solidFill>
              <a:srgbClr val="809ea8"/>
            </a:solidFill>
            <a:ln w="9360">
              <a:solidFill>
                <a:srgbClr val="e9dc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111111"/>
                  </a:solidFill>
                  <a:latin typeface="Arial"/>
                </a:rPr>
                <a:t>oct 0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111111"/>
                  </a:solidFill>
                  <a:latin typeface="Arial"/>
                </a:rPr>
                <a:t>449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429080" y="4149720"/>
              <a:ext cx="1800000" cy="1440000"/>
            </a:xfrm>
            <a:prstGeom prst="flowChartManualInput">
              <a:avLst/>
            </a:prstGeom>
            <a:solidFill>
              <a:srgbClr val="809ea8"/>
            </a:solidFill>
            <a:ln w="9360">
              <a:solidFill>
                <a:srgbClr val="e9dc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111111"/>
                  </a:solidFill>
                  <a:latin typeface="Arial"/>
                </a:rPr>
                <a:t>dec 0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111111"/>
                  </a:solidFill>
                  <a:latin typeface="Arial"/>
                </a:rPr>
                <a:t>1.81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229080" y="3789360"/>
              <a:ext cx="2158920" cy="1793880"/>
            </a:xfrm>
            <a:prstGeom prst="flowChartManualInput">
              <a:avLst/>
            </a:prstGeom>
            <a:solidFill>
              <a:srgbClr val="809ea8"/>
            </a:solidFill>
            <a:ln w="9360">
              <a:solidFill>
                <a:srgbClr val="e9dc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111111"/>
                  </a:solidFill>
                  <a:latin typeface="Arial"/>
                </a:rPr>
                <a:t>jan 0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111111"/>
                  </a:solidFill>
                  <a:latin typeface="Arial"/>
                </a:rPr>
                <a:t>3.36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900000" y="2133720"/>
            <a:ext cx="7632720" cy="57600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Today: 45.000 stoves so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2924280"/>
            <a:ext cx="7632720" cy="79200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Considerable increase of sales numbers with the beginn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Of the marketing campaig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5734080"/>
            <a:ext cx="7632720" cy="71928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After the end of the 1st campaign stabilisation on a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Of 2000 stoves a month </a:t>
            </a:r>
            <a:r>
              <a:rPr b="0" lang="en-GB" sz="18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b3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92929"/>
                </a:solidFill>
                <a:latin typeface="Arial"/>
              </a:rPr>
              <a:t>Success 2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00000" y="3645000"/>
            <a:ext cx="7632720" cy="100800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The subject «improved stoves» is back in the heads –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And no longer an „old hat“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2438280"/>
            <a:ext cx="7632720" cy="107964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«roumdé» is known all over the count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– </a:t>
            </a: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makes scaling up eas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b3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411280" y="2276640"/>
            <a:ext cx="4824720" cy="288108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111111"/>
                </a:solidFill>
                <a:latin typeface="Arial"/>
              </a:rPr>
              <a:t>Thank yo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111111"/>
                </a:solidFill>
                <a:latin typeface="Arial"/>
              </a:rPr>
              <a:t>merci</a:t>
            </a:r>
            <a:br>
              <a:rPr sz="2800"/>
            </a:br>
            <a:br>
              <a:rPr sz="2800"/>
            </a:br>
            <a:r>
              <a:rPr b="1" lang="de-DE" sz="2800" spc="-1" strike="noStrike">
                <a:solidFill>
                  <a:srgbClr val="111111"/>
                </a:solidFill>
                <a:latin typeface="Arial"/>
              </a:rPr>
              <a:t>barka</a:t>
            </a:r>
            <a:br>
              <a:rPr sz="2800"/>
            </a:br>
            <a:br>
              <a:rPr sz="2800"/>
            </a:br>
            <a:r>
              <a:rPr b="1" lang="de-DE" sz="2800" spc="-1" strike="noStrike">
                <a:solidFill>
                  <a:srgbClr val="111111"/>
                </a:solidFill>
                <a:latin typeface="Arial"/>
              </a:rPr>
              <a:t>Herzlichen Da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b3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92929"/>
                </a:solidFill>
                <a:latin typeface="Arial"/>
              </a:rPr>
              <a:t>Basics 2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2492280"/>
            <a:ext cx="2447640" cy="576360"/>
          </a:xfrm>
          <a:prstGeom prst="flowChartAlternateProcess">
            <a:avLst/>
          </a:prstGeom>
          <a:solidFill>
            <a:srgbClr val="d1d1cb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111111"/>
                </a:solidFill>
                <a:latin typeface="Arial"/>
              </a:rPr>
              <a:t>1st Ph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96000" y="2492280"/>
            <a:ext cx="2448000" cy="576360"/>
          </a:xfrm>
          <a:prstGeom prst="flowChartAlternateProcess">
            <a:avLst/>
          </a:prstGeom>
          <a:solidFill>
            <a:srgbClr val="d1d1cb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111111"/>
                </a:solidFill>
                <a:latin typeface="Arial"/>
              </a:rPr>
              <a:t>2nd Ph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3141720"/>
            <a:ext cx="2448000" cy="1224000"/>
          </a:xfrm>
          <a:prstGeom prst="flowChartAlternateProcess">
            <a:avLst/>
          </a:prstGeom>
          <a:solidFill>
            <a:srgbClr val="d1d1cb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Target gro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3141720"/>
            <a:ext cx="2447640" cy="122400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111111"/>
                </a:solidFill>
                <a:latin typeface="Arial"/>
              </a:rPr>
              <a:t>househo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3141720"/>
            <a:ext cx="2521080" cy="122400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111111"/>
                </a:solidFill>
                <a:latin typeface="Arial"/>
              </a:rPr>
              <a:t>househo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111111"/>
                </a:solidFill>
                <a:latin typeface="Arial"/>
              </a:rPr>
              <a:t>Professional 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111111"/>
                </a:solidFill>
                <a:latin typeface="Arial"/>
              </a:rPr>
              <a:t>institutional us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4437000"/>
            <a:ext cx="2448000" cy="1224000"/>
          </a:xfrm>
          <a:prstGeom prst="flowChartAlternateProcess">
            <a:avLst/>
          </a:prstGeom>
          <a:solidFill>
            <a:srgbClr val="d1d1cb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1111"/>
                </a:solidFill>
                <a:latin typeface="Arial"/>
              </a:rPr>
              <a:t>sto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4437000"/>
            <a:ext cx="2447640" cy="122400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111111"/>
                </a:solidFill>
                <a:latin typeface="Arial"/>
              </a:rPr>
              <a:t>mobile met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11111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111111"/>
                </a:solidFill>
                <a:latin typeface="Arial"/>
              </a:rPr>
              <a:t>sto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96000" y="4437000"/>
            <a:ext cx="2592360" cy="122400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111111"/>
                </a:solidFill>
                <a:latin typeface="Arial"/>
              </a:rPr>
              <a:t>mobile metal sto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111111"/>
                </a:solidFill>
                <a:latin typeface="Arial"/>
              </a:rPr>
              <a:t>fix mud sto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b3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92929"/>
                </a:solidFill>
                <a:latin typeface="Arial"/>
              </a:rPr>
              <a:t>The long history of</a:t>
            </a:r>
            <a:br>
              <a:rPr sz="3200"/>
            </a:br>
            <a:r>
              <a:rPr b="1" lang="en-GB" sz="3200" spc="-1" strike="noStrike">
                <a:solidFill>
                  <a:srgbClr val="292929"/>
                </a:solidFill>
                <a:latin typeface="Arial"/>
              </a:rPr>
              <a:t>improved stoves in Burkina Faso</a:t>
            </a:r>
            <a:br>
              <a:rPr sz="3200"/>
            </a:b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55640" y="2421000"/>
            <a:ext cx="7919280" cy="3745080"/>
            <a:chOff x="755640" y="2421000"/>
            <a:chExt cx="7919280" cy="3745080"/>
          </a:xfrm>
        </p:grpSpPr>
        <p:cxnSp>
          <p:nvCxnSpPr>
            <p:cNvPr id="61" name="_s123917"/>
            <p:cNvCxnSpPr>
              <a:stCxn id="62" idx="0"/>
              <a:endCxn id="63" idx="2"/>
            </p:cNvCxnSpPr>
            <p:nvPr/>
          </p:nvCxnSpPr>
          <p:spPr>
            <a:xfrm flipV="1" rot="16200000">
              <a:off x="5405760" y="3226680"/>
              <a:ext cx="749520" cy="2133000"/>
            </a:xfrm>
            <a:prstGeom prst="bentConnector3">
              <a:avLst>
                <a:gd name="adj1" fmla="val 1523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4" name="_s123915"/>
            <p:cNvCxnSpPr>
              <a:stCxn id="65" idx="0"/>
              <a:endCxn id="63" idx="2"/>
            </p:cNvCxnSpPr>
            <p:nvPr/>
          </p:nvCxnSpPr>
          <p:spPr>
            <a:xfrm flipH="1" flipV="1" rot="5400000">
              <a:off x="3273840" y="3227040"/>
              <a:ext cx="749520" cy="2132280"/>
            </a:xfrm>
            <a:prstGeom prst="bentConnector3">
              <a:avLst>
                <a:gd name="adj1" fmla="val 1523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3" name="_s123911"/>
            <p:cNvSpPr/>
            <p:nvPr/>
          </p:nvSpPr>
          <p:spPr>
            <a:xfrm>
              <a:off x="2887200" y="2421000"/>
              <a:ext cx="3655080" cy="1497960"/>
            </a:xfrm>
            <a:prstGeom prst="roundRect">
              <a:avLst>
                <a:gd name="adj" fmla="val 16667"/>
              </a:avLst>
            </a:prstGeom>
            <a:solidFill>
              <a:srgbClr val="d1d1c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11111"/>
                  </a:solidFill>
                  <a:latin typeface="Arial"/>
                </a:rPr>
                <a:t>Distribution of improved stov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11111"/>
                  </a:solidFill>
                  <a:latin typeface="Arial"/>
                </a:rPr>
                <a:t>in Burkina Faso since the 1970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_s123912"/>
            <p:cNvSpPr/>
            <p:nvPr/>
          </p:nvSpPr>
          <p:spPr>
            <a:xfrm>
              <a:off x="755640" y="4668120"/>
              <a:ext cx="3655080" cy="1497960"/>
            </a:xfrm>
            <a:prstGeom prst="roundRect">
              <a:avLst>
                <a:gd name="adj" fmla="val 16667"/>
              </a:avLst>
            </a:prstGeom>
            <a:solidFill>
              <a:srgbClr val="d1d1c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11111"/>
                  </a:solidFill>
                  <a:latin typeface="Arial"/>
                </a:rPr>
                <a:t>Through associations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11111"/>
                  </a:solidFill>
                  <a:latin typeface="Arial"/>
                </a:rPr>
                <a:t>(often as gift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_s123914"/>
            <p:cNvSpPr/>
            <p:nvPr/>
          </p:nvSpPr>
          <p:spPr>
            <a:xfrm>
              <a:off x="5019840" y="4668120"/>
              <a:ext cx="3655080" cy="1497960"/>
            </a:xfrm>
            <a:prstGeom prst="roundRect">
              <a:avLst>
                <a:gd name="adj" fmla="val 16667"/>
              </a:avLst>
            </a:prstGeom>
            <a:solidFill>
              <a:srgbClr val="d1d1c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11111"/>
                  </a:solidFill>
                  <a:latin typeface="Arial"/>
                </a:rPr>
                <a:t>Through the state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11111"/>
                  </a:solidFill>
                  <a:latin typeface="Arial"/>
                </a:rPr>
                <a:t>(forced introduction during th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11111"/>
                  </a:solidFill>
                  <a:latin typeface="Arial"/>
                </a:rPr>
                <a:t>Revolution 1983-87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b3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92929"/>
                </a:solidFill>
                <a:latin typeface="Arial"/>
              </a:rPr>
              <a:t>The long history‘s advantages</a:t>
            </a:r>
            <a:r>
              <a:rPr b="1" lang="de-DE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2421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16000" y="2852640"/>
            <a:ext cx="6840720" cy="1656000"/>
          </a:xfrm>
          <a:prstGeom prst="flowChartAlternateProcess">
            <a:avLst/>
          </a:prstGeom>
          <a:solidFill>
            <a:srgbClr val="809e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11111"/>
                </a:solidFill>
                <a:latin typeface="Arial"/>
              </a:rPr>
              <a:t>The stoves are know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b3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92929"/>
                </a:solidFill>
                <a:latin typeface="Arial"/>
              </a:rPr>
              <a:t>The long history‘s disadvantag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16000" y="2276640"/>
            <a:ext cx="6840720" cy="79200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111111"/>
                </a:solidFill>
                <a:latin typeface="Arial"/>
              </a:rPr>
              <a:t>«an old hat 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16000" y="3213000"/>
            <a:ext cx="6840720" cy="108108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11111"/>
                </a:solidFill>
                <a:latin typeface="Arial"/>
              </a:rPr>
              <a:t>People never needed to decide acquir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11111"/>
                </a:solidFill>
                <a:latin typeface="Arial"/>
              </a:rPr>
              <a:t>stoves – They always got them „somehow“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16000" y="4437000"/>
            <a:ext cx="6840720" cy="136836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11111"/>
                </a:solidFill>
                <a:latin typeface="Arial"/>
              </a:rPr>
              <a:t>People are not used to invest (money)</a:t>
            </a:r>
            <a:r>
              <a:rPr b="0" lang="en-GB" sz="18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11111"/>
                </a:solidFill>
                <a:latin typeface="Arial"/>
              </a:rPr>
              <a:t>to get the sto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b3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92929"/>
                </a:solidFill>
                <a:latin typeface="Arial"/>
              </a:rPr>
              <a:t>The consequenc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4360" y="2276640"/>
            <a:ext cx="7559640" cy="100800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11111"/>
                </a:solidFill>
                <a:latin typeface="Arial"/>
              </a:rPr>
              <a:t>Stoves were often not 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4360" y="3500280"/>
            <a:ext cx="7559640" cy="108108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11111"/>
                </a:solidFill>
                <a:latin typeface="Arial"/>
              </a:rPr>
              <a:t>Or they were not replaced after having been 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b3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92929"/>
                </a:solidFill>
                <a:latin typeface="Arial"/>
              </a:rPr>
              <a:t>The challeng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2276640"/>
            <a:ext cx="7993080" cy="100800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11111"/>
                </a:solidFill>
                <a:latin typeface="Arial"/>
              </a:rPr>
              <a:t>Stoves have to become a commercial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3500280"/>
            <a:ext cx="7920000" cy="108108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11111"/>
                </a:solidFill>
                <a:latin typeface="Arial"/>
              </a:rPr>
              <a:t>The „happy ones“ become „clients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b3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92929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2276640"/>
            <a:ext cx="7993080" cy="100800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11111"/>
                </a:solidFill>
                <a:latin typeface="Arial"/>
              </a:rPr>
              <a:t>Clients pay (voluntarily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3500280"/>
            <a:ext cx="7920000" cy="108108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11111"/>
                </a:solidFill>
                <a:latin typeface="Arial"/>
              </a:rPr>
              <a:t>They use for what they have pa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4797360"/>
            <a:ext cx="7920000" cy="1081080"/>
          </a:xfrm>
          <a:prstGeom prst="flowChartAlternateProcess">
            <a:avLst/>
          </a:prstGeom>
          <a:solidFill>
            <a:srgbClr val="d1d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11111"/>
                </a:solidFill>
                <a:latin typeface="Arial"/>
              </a:rPr>
              <a:t>If they are satisfied, the replace the used product.</a:t>
            </a:r>
            <a:r>
              <a:rPr b="0" lang="en-GB" sz="18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18:05:18Z</dcterms:created>
  <dc:creator>GTZ</dc:creator>
  <dc:description/>
  <dc:language>en-US</dc:language>
  <cp:lastModifiedBy>Jan-Hendrik Soehlemann</cp:lastModifiedBy>
  <dcterms:modified xsi:type="dcterms:W3CDTF">2009-01-08T09:03:15Z</dcterms:modified>
  <cp:revision>219</cp:revision>
  <dc:subject/>
  <dc:title>Diapositive 1</dc:title>
</cp:coreProperties>
</file>